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F76-C911-4A25-80B2-537E201E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842-AD47-4268-B4EC-6D921F3A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DC3C0-315D-4275-A6A5-92BA871C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33D99-3ABA-43E3-A610-B822BFCF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EE144-CE66-4E1D-944B-7F3BEB06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FFA6-E91C-4F57-A917-1AFCBCD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DDBD-1A2B-4B09-A289-0B311CD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BE0BE-713E-4670-9436-7A795ED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E30E-958D-439E-BC06-C9D0900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8A1E1-A7D3-4B50-BE6A-A4F7289A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24CCB-E72E-429C-915F-648C431E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9B62E-DD31-47C3-802F-0D5D3FC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9A0-6A46-48B4-9B31-1E81A5A7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2388B-D170-43E9-BDDD-98BA8386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98E9D-2B6C-4C2C-8CA4-F13EA278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DE4B9-26A9-419E-B5EC-EE930DD3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7797D-FE4E-4923-AB59-EEE920C3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AA60E-68EA-4D0D-9FBC-2715DE1E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105BA-0A34-4D95-99FA-3883955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9A272-DE21-41BC-AD2C-BFA5B40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F4A82-31EB-4176-871D-1733B6A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052FF-99BF-4A70-8DFA-E3046F7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CBB3F-E0B8-4246-BEF0-0007D010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CA0-1E1A-4A65-9052-112DC17B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42071-7527-4AAB-896D-5B58F8A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7E1DC-3D65-4F5A-A2FC-53BBECF1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14F0E-D124-4E8E-B0F6-8750CA9E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8CC56-7B37-4C3D-956A-8279EDA1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24565-7DA8-4F8C-8770-2867DBC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FAD3E-5C93-4112-9AF7-0B509B41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31608-84A0-4130-BC20-8A7B037A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947F8-5D2A-4307-BEC5-8E9AA61B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E9862-7EDB-4DEA-8015-87057AB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C6AD0-10B0-4332-B251-505F664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A353-AA19-4CF8-9A8A-DA6990D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8272E-2A07-4D9F-9D64-98BC65AF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2CD0A-7EE1-4D15-9611-78B8B04D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78B4-984E-4D0A-A33F-81C17ED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38815-90B1-4DD8-8CEE-C82BF5BB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D9D1E-B2DD-4DF7-AF37-80051EA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7337C-3218-4DCD-9A7D-209E1E91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1F0C3-8612-4223-B1A3-932501D9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6B847-253D-4C5C-AB45-BBCE193A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FD3BF-B1C2-48F8-8AD5-61F87D4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631C-D447-4E72-8578-7C46309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1A48-C8AB-424F-AF0B-88D05CEE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C8667-B7D4-4221-B8BB-411E5A6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DBEA6-40F4-47D1-A83A-77C50C0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8DA5F-DBE2-4351-9D91-34E4FDC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D11E3-FFA8-4843-9DB5-7A278ABE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18CAF-D8DE-4C3C-BE64-EB852DE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95EBB-6A50-472D-895A-9838D47C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63999-C268-4DF9-BBD6-141B12FB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328C3-5BFF-4F02-8E88-BDF7FF32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28798-2AD6-498B-AC96-780561F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A6D2A-24ED-40C1-8670-060B79DC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506C-2D35-457F-A262-46110EED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5C4EF-BAC5-4204-A7CD-D64F154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2BE1D-AFAE-4F45-B883-E45A48A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32B5F-C892-4072-AF5A-4C71AD2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0919A-1A61-4FB6-A238-7DD5E8D4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671E5-568D-48FC-89EE-C756B77F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FA916-FD89-47E0-92CF-286C14C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545C4-9C3F-4F25-B426-041CC1E8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81DBB-BE60-4733-9EB7-61F10D41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C9018-C09E-4E3D-A059-C8CA829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7A5AD-0622-4353-B393-84161C63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7CE-34A6-46A7-B291-43C797A3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CA975-9EA8-4FD3-9193-96EB058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95AFB-0CE1-4A0E-8539-702040E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0DC90-9904-4200-91CC-3B198C9D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416A6-9C84-40F4-AB68-918DA19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890A7-3BED-467A-BDC1-62C169E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6AC6A-F735-4181-B1A0-924756B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3F3DE-8D70-408B-96D4-3695B16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BD70D-B31B-4255-A187-6AABBE3A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C40FB-E6F3-4A8A-BD43-C572A9E4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394B7-A364-4A94-A1E2-A1862BE7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251D-9E7C-4EC3-9B26-ADC953A0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7E7E7-534C-4CAE-A57A-3B4D2A81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EAC22-ABA1-4015-9C8B-F48A33BA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C098D-86B9-4517-B5FB-B15A9176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13E28-0AD8-48C0-AF83-1D58114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BB786-97E4-4B98-A9F6-7FB1DFC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10E74-04D7-4C51-AED7-64AA329C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2E79A-E51A-4727-B649-494C6BE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92EC5-9B2B-423B-948B-47FD655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4E55F-834A-4BE8-ADDD-02722675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55CBB-188A-4160-A89B-DFA6771E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AFF0-D6B2-47EF-A2FC-2D633159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E812A-D3E5-4F5D-B353-D4A49D9F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D581B-D745-4EED-8E8C-504016D9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CBE23-BBC0-4658-BD97-4FC90AB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5240D-F341-4253-9BD0-CCB221A9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EA6F9-DD70-46A2-A57D-6129C56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57164-2E18-40A3-83C6-7D3239F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30473-CDDA-472F-8E8A-336806E9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52B84-2CBC-4A29-B871-2F5BBE3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E5474-4FC9-4FF0-85B5-4B6A5E6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39EA8-B845-4A1C-A9C3-9E1BC80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92A-5792-4629-ACEB-242B3A3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5F7E1-C74E-4DDE-83B7-E095FCF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03E3E-F343-4459-A437-0A5123AF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45994-E5EC-48EE-A6D1-0E615032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2D3DD-3642-4A84-AF4E-600BD4AC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5CCB1-364F-4DCB-BB6B-C7F4C4C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D29CE-B719-4CB0-B6B3-F9E40518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E5E34-777B-464D-9B8D-F3AD3EC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90383-0F2C-4F26-81C6-28F99106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AE3B3-FC98-4F26-93E0-E786EE9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E08A3-EE9B-4B6B-80DE-8A6FE36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4F4-51D1-4C81-97E2-5876C3FA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A608-6FC6-478B-B5C1-2104B6ED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0E29E-0C59-43AE-B6BD-6CA90876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259D7-4C3A-4885-9080-764DC67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5379C-1AF6-4692-BBE0-BB03B4C9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7583E-7FB8-4B28-979E-73564931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D12A1-AC1C-4402-BCFA-F5CE0ED4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E8060-4357-4E3F-9946-21771421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98911-8777-4DDB-998E-71B64824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C8666-80CC-4B4A-BB98-15D5DE34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E4B63-5736-44F9-AA89-99F8E21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D6ECF-220B-4E80-88F8-950B11A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7121-412F-411C-BAD4-9A04EC71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15481-A1CD-4D11-919D-B2497E66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C5E38-8CE8-4948-823A-162950C7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A015F-576C-4452-974B-842F005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CD014-A288-4F79-BEB1-72424EEE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4153A-2104-420C-A4BB-AC6BC55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A9C2F-F2C0-4711-A48E-ADE2C905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41FDE-D1E3-4D2B-B01C-8BE76FF4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C6E2B-F599-4426-BDDD-629F4191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B37EA-25A8-4C58-92FF-09C7AE0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822AB-694D-49FA-813D-C5111D76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E1E0-2F50-4A6F-A0CA-663A8FFD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8A78E-8B8B-40AC-9971-30C5C0B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ECFD7-DEC4-40D8-B5FE-B3BF977A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11C96-9183-4815-A0B3-3584154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45A43-EAC9-42AB-A158-3460C77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8E01C-36D4-42F0-9976-3B4F9E4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3187A-00BA-4FE2-9B53-BD251D3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32541-25C0-4AE4-A0CA-AE8D999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19BF3-6E7A-4CBB-8533-4110EAE0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2B026-B51D-4BA9-B482-4457A840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55BA8-55DC-4CB2-9783-77534EA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834-7C94-411D-94FC-65CBCFDE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10EBE-09AC-4012-A75E-299828EE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7A19B-707F-41F9-A093-0FB14CB2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B5227-0F3A-4AA5-BD5E-1335DDF4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9A355-E6B0-4A47-9388-E4D3203A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2B438-9070-47D0-9B70-6781F5BA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E9AEF-6406-424E-BC3B-9717082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19AE6E-8448-4117-AFD6-0621B89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B7302-41E0-4579-AF74-070C585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43DE9-9EC3-4694-AD95-B5B2BCB0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98FCB-DAFC-48A5-B3C1-49C62B05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5A00-4A28-4A9E-AE96-ADAD4867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90B01-FE20-4681-818F-EC830389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24C43-1CF3-4728-9994-C7B80483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3B321-0EDB-4C82-8726-B26A64AA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B4C29-4423-4837-9484-FD89630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E0F7A-B95F-45D1-8D16-BEA8205E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9334A-5A69-430B-BA2A-7A337311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5CE5B-800C-4EA3-A4A7-DF0E0E1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09E15-09AB-4D98-9A90-221F7D3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6D0DC-FB47-47A9-BAEA-8664F0D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652CD-8AF7-4593-8B16-5084B91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76B9-6F8F-4DEE-97ED-663BDD83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BD6B42-8653-4B8B-ADAF-5421B10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55466-0C94-4E8C-A00F-A60CB692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FE0FC-3722-43A1-B87F-2F91C3BE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085954-73E2-448B-B162-65E67F8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851DFB-5FAD-4894-B09A-FC855A6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D0077F-95C3-4565-85F5-3FA9C12B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25D2D4-3339-4B99-9A02-5B30C92C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66C099-016A-4DA3-843C-F124D78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03D4AB-5C4E-4804-BB91-938C0C8B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D5F03B-8D34-4E5E-8CBE-3D4D1D2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1889-05CA-46E5-BF3F-3C82FC07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C76B8D-46E9-4606-AF1E-DB74043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00281-2E67-4D58-9017-4EF92C49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BEC25-0770-4FA1-A44F-EB2B5235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04AB74-3621-400A-A8CC-5DA82F77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DD26A-F922-4683-990D-433A5E8B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24C3C-1DD5-47E3-B37C-FCFF3E42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DF4A93-EBA9-42A4-97AB-F40CF120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862FB-DD4B-4BD3-A3CB-D0DA0B84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36185F-8A81-4C4C-B0CF-0C8732E9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97E050-BDD5-4626-8903-47D6FB45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B61E-E305-421B-8262-3D52758A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7E3F9-A74E-4D3D-A038-857254D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1DFD65-7E7E-493E-88A3-250F5DF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8E1E12-778B-40DE-B572-A2FE6A9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D20C9-BD7F-4555-9EC3-F89C6897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2605E-F13F-44F0-B4C3-51F4969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49F913-683A-4A88-AE54-979F59BA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77B488-F19C-44BE-A1D3-A171B878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47FF-8604-4F53-9C2A-C28C828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40F4-7EB1-44DC-AD63-9BC96230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B46-ED8D-4FE9-A2B5-C784E05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8177-6AC9-4BBD-BF3C-0D211343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A26B-99B4-44A8-9366-67D4F04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2C6E-53B3-4CC5-ADC5-2D777E2D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74B4-75F6-4ACF-91FA-E4FE5D1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1B7A-CB31-45A9-B6EA-2467134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3A83-17ED-40E6-8260-A2E77EF1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B7F8-EBA2-4CC7-AD54-8AC9999D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D618-32DD-45FB-BCA3-CB338C6B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F2BC-9067-4596-8024-8449DBC3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30B6F-4D55-4C3C-921D-4D8F57C7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7FE-5077-4533-BC34-4BDA992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B46C-7E55-47B7-B92B-592B4BB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1159-F23A-4DA6-9FF7-30E5386C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2197-08EC-4093-A0F0-01089EE1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FDBC-2F3B-4DCC-82BE-DD8E516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4D8C-D25D-4552-8AF3-1AB8E72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72C2-E418-446A-9CCF-AA933C9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1B0E-8B08-47C8-ABDD-B5DA427B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6EFD-9761-4DAF-9BA1-2E1B7C81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4B295-01E4-4100-9C4F-CB5EC791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27B2-8D11-4F8A-97F2-B37F6DBC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914-6D78-4A00-8D0D-BD79F86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41E4-5BFD-4931-B42B-CB72DCF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2FD8-7A5D-4B55-977E-FD750350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6273-804A-4815-AC44-48014A0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C52C-D078-4775-8D01-A5F12C6E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535D-BF67-4A22-A5D3-D347D453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528B-8595-4EC1-B02C-8E2B80B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A999-1884-4540-8C6F-78F6800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D5E4-25C9-4CDE-B6AB-1BC855CD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7F07-F6B6-43FE-A37B-17CA7790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53E7-A087-479F-A26D-187BE7F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602-6CBD-4AC4-A281-C68A70A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DB87-A429-47C7-875E-26D87309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95CCC-EE1E-4EB9-B689-F500207F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FC12-BDC8-4817-9C64-5F50F56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094C1-B7C1-4741-B604-44460768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ED13-B6C5-487E-960F-8FB81A92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41F24-B7E5-4887-BBF2-3AAE0486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08AD-E598-448C-AC14-D2B4319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13CC-C50F-44AC-AE46-8B79C81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B13C-430A-499D-A42C-7D06EB7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A6CA-1003-4BAA-9A87-BF929E5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234-7BC3-4BE0-AC7E-F6237C5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9179C-A404-41A9-B07A-4CE19FA1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0BFB-18FF-40F7-B6D9-F9CEB068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C527-2519-4A5B-A7F7-048E9F3D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9F7B-1CF3-4951-A405-D415E3E2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C133-5C4C-4037-8C8D-B71804CA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4691-C5E5-466E-91AB-B9AF721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A80DD-B017-4DEE-A1F8-52F6F1A6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B8C1-EE15-47CF-AA7C-D77E3C3C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49A2C-2000-4F9C-9986-680DBD0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D267-284B-4309-A9C6-5E19EFC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538-05EF-444E-8876-59598A4C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A4D6E-4ED7-4450-963F-6F30849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1C35F-862D-413F-9C9E-1E6034C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6403-377C-410F-B9EA-45AC547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86339-453C-4BE3-AECF-F8A1B142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724C-89A6-462A-B83E-F172FDA4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04A2D-E8FC-4462-A836-88FD4029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F821D-AD32-4E19-863C-E6D97656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189E-BFD9-451F-8EB7-687DA071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558A-016E-48A6-A2D9-028A0F9C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4883-DEAF-4752-AFDD-E83878BF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626-9F0F-4339-B51D-AD0FBCB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C7A0-B19D-434A-A0D6-A7F7DF5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E0263-C1B3-4AD7-A39C-C0D837E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CA0B-C904-4356-8668-5149C71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1976-72C6-4AFA-9E0B-6E2282C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6CA9-FF64-4693-874A-36D9F5A2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3ACD-DD02-420D-A4E9-5E30D88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D8A27-34F2-45AB-AD3D-31CCD525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CF1F3-35EB-44C3-945C-BD0B0410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BCF64-CFC5-4363-893F-6DF0A7BE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9A2A4-726F-4F8D-BD04-F7293A2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E11-C8DC-4202-B786-E68ED85ECE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B5D2-BFEA-48B9-9FA4-910E0D0CD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BF77-A2E2-475E-A75A-E88121684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24F8-ED8B-455C-B624-DB419BCCC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4536-A1FE-44BD-BFE5-EEFA7CEC2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B234-C1AF-4175-8973-131A3CDC9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23C2-D371-4B33-A3B7-EE9EBB21E3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5319-2522-4A12-B249-094824CADA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8E2-1AEA-44CE-847A-CED1FD8FC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6285-E8FB-4220-88E5-C195EFE31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2EA1-BC82-4C66-8DC0-F554DC71E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B064-EA2E-4776-BF45-7D6073AF4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C693-243E-455B-8626-59C408950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20B9-7054-4028-A20C-D8E47D620B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D85-2451-499E-A7D7-F12F09DA5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EFF-72D1-4136-9A8C-996BFB90B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A84A-275C-416F-8F14-3A57AC3D33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F70-2228-4518-A4AF-BBA7C0C24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C68D-4507-4513-96B9-47941E309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2EA-8AA4-41A9-AFF0-0C043B17BC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D1C4-3A8B-4280-A412-D5CEFE88E5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74E6-F891-465C-927D-AEBEB0E43D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16D-4767-498A-BC1A-F6E7417AE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016-22D3-4618-8DB2-50338DA84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450-5357-4E37-A174-9C461DBB4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847-9C21-4788-94CF-855AC6E03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E3B4-3197-4673-85BB-43FA37B32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A20-8B0A-4D9E-B42A-BBE7457A48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4FC-ED08-4B2F-8ED6-57D9E6C4C8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166-0566-4FB6-A02F-575880B74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E403-5D31-466A-8981-1F35C8B18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85D-00E2-4A99-9CD6-091848D45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E166-730C-44E1-9EFC-E704C1903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C876-D43B-42AF-8762-F34F83EE3E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9D6-6D56-499B-98D0-60718A9C6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ECFC-6C3A-4775-8DEB-7F6A02F86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27C-ACDC-4052-B4C4-1FDF0E3E10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43B6-930D-487D-AE3B-D00BDA81B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3E2-7D35-4C7B-8B14-DD521C1D9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F44F-0858-4DCA-8269-2EEA31A44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8188-C35B-4D0F-BB7E-A001496C7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F27-B5E4-4A48-81A1-AD008DD1DA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5680" y="2763720"/>
            <a:ext cx="8969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495360" y="1886040"/>
            <a:ext cx="8153280" cy="3085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33433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800280" y="1219320"/>
            <a:ext cx="7543800" cy="44193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496280" y="443700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5084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67640" y="515772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33280" y="820800"/>
            <a:ext cx="8677440" cy="56577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4211640" y="595008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81040" y="1843200"/>
            <a:ext cx="7981920" cy="31716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58341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1116000" y="4105440"/>
            <a:ext cx="5834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04840" y="1647720"/>
            <a:ext cx="8734320" cy="35625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595440" y="1238400"/>
            <a:ext cx="7953120" cy="43812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31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1085760" y="141120"/>
            <a:ext cx="7535880" cy="6575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7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908000" y="449424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2050920" y="4984920"/>
            <a:ext cx="6553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38040" y="934920"/>
            <a:ext cx="846792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29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7775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777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71360" y="266760"/>
            <a:ext cx="8801280" cy="6448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500720" y="6021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5219640" y="602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5867280" y="602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451640" y="60498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8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